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918-5425-41B3-B276-C1F8D194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A8C-8886-484F-B69B-7196B62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5EB-B0AB-4C55-BA58-08D47CD6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4D3-3C33-47C6-8903-D6F0AF8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85B-1608-4E53-AA62-B6A97296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46A-E59C-433F-B774-5C81EE8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576-4BB1-42CE-B37D-FB1AE0E4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A64-07AD-4582-8134-07AA2FA1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FC3-0FC4-4ED6-ADA6-692255A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F4B-F90C-4029-889C-79C37F5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FAC-25BF-45EF-8D3E-98953FA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DEB-6E62-4240-B8F6-71092E7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4960-9901-4364-AE09-2278A9E0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 Clase 6IM (602)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0 de abril de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tas listo para la prueba 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ñora Roa_________ muy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los y Daniel _________ perez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de Boli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en la clase de i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química y la geometría________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llermo _________una persona trabaj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liseo Nassau ____________ en Long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nervioso por la prue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aso de Se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- What is the difference betw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0120" y="160020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hysical descriptions; traits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54440" y="1981080"/>
            <a:ext cx="84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rigin; to tell where someone or something is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3360" y="2362320"/>
            <a:ext cx="37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ll time; give a d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53360" y="2743200"/>
            <a:ext cx="39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pos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062160"/>
            <a:ext cx="91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profession, nationality, religion, political affi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4080" y="3429000"/>
            <a:ext cx="75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ere or when an event is taking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4440" y="3886200"/>
            <a:ext cx="57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at something is mad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4080" y="4267080"/>
            <a:ext cx="35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or math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7400" y="5105520"/>
            <a:ext cx="39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express a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572360" y="510552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dentify a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77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alk about certain weathe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5880" y="588168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a change from the n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5600" y="6338880"/>
            <a:ext cx="83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specify the special state or nature of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SER/ESTAR Quiz on MON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4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0:31:39Z</dcterms:created>
  <dc:creator>Helen Zumaeta</dc:creator>
  <dc:description/>
  <dc:language>en-US</dc:language>
  <cp:lastModifiedBy>Helen Zumaeta</cp:lastModifiedBy>
  <dcterms:modified xsi:type="dcterms:W3CDTF">2013-04-08T19:10:10Z</dcterms:modified>
  <cp:revision>15</cp:revision>
  <dc:subject/>
  <dc:title>Me llamo _________ Clase 7IM La fecha es el 29 de abril del 2011</dc:title>
</cp:coreProperties>
</file>